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07139C-10B6-4BF7-9B22-54E1D61B4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EBC931-DA2F-41F0-BB0E-D9F6F63FB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4895CD-287E-4C9D-9238-81417CD44D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846B1A-AB42-4832-8999-07D57D1D6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8451AF-5F69-432F-886A-65FD21A17C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93737B-0824-40EE-A31C-0D7459282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17A530-BC99-462B-807D-A21BB46099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4DA6D0-9CAD-4647-A4D0-B0A76ADA2D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55DC8D-0F32-40A7-AE38-FADD5BA0C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FD3493-C898-4D32-BC4A-AF82F288F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DDA3BF-A357-4030-BBD1-826BEBC15C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DB7A3B-7082-4693-B84A-B22E47EB1E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F53480-6C2C-4122-8A23-BC6ED6247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9749CE-3E9E-491D-97CC-9E2C0B1C7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48D925-51A3-466F-AD6D-D974798BA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F53-BB39-4FE6-BC9A-49BB32A3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51F-1553-484B-BD1F-5EFF0B5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5FB-67D5-4148-88F2-90D459CB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248-E204-4615-BC72-FC2E18ED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B9B7-9CF8-4AB7-A503-D24EBEDF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D1CA-2C22-4CA8-8B53-806658AA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FF0C-4AC3-4A94-A62A-E25A81ED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239B-3203-4A2C-856C-FC2CA2E1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14FE-BA6B-4AD9-8791-89951C6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225C-1BBD-4C23-9CC5-FAC11CD9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7312-EF53-451E-8E41-815FAA3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A42-2A73-474D-8876-F728AEDD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A0A8-6132-4AE1-B7D8-8821887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8DD9-2D04-4486-AB0D-62EC101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D3F1-6805-4F7A-BCF1-2E82BD4F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678-F71A-44D0-B287-AB789AD0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6950-AF48-4764-B501-5464CDA3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2D2-C3C1-4016-88B1-BFAEAB5E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E95-469A-40BF-B3B8-D2814063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159-CB97-4F40-B12F-8800C808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27F-4526-4B05-B09E-1084D6C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795-F7A4-4A5D-8ABB-7C0EF84C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B63-139F-4A4F-B0C6-E1AA847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3A6-F3CE-4733-87CD-537BB385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1C35-98D7-4BA4-A996-2BD0276C2F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5A04-299C-430D-9B6A-A3F53832AF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0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D2DD-E9AF-4F2C-A4F0-E000FD764EE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ahoma"/>
              </a:rPr>
              <a:t>Комитет по Техническим Альтернативам Холодильного оборудования, систем кондиционирования воздуха и тепловых насосов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90720" y="42670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066680" y="2530440"/>
            <a:ext cx="5867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лекс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C.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ача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ЮНЕП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RT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Ламберт Куипер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ЮНЕП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RTOC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 сопредседатель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E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стреча сети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елград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рбия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10-13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ая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7086600" y="51055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773F-757D-484B-8001-B24EA2F8D10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очный доклад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2010 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Ключевые сообщ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Резюме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сокращённое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Основных полож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о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председател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Все гла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сылк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аждой глав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лож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нки и эмисс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010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0/11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ая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ECA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Белград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Холодильная отрасль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10-13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ая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B33A-B734-4DAE-B83D-BE99EE1B5A6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Ситуация в целом</a:t>
            </a:r>
            <a:endParaRPr b="0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Доклад вписывается в более широкую картину </a:t>
            </a: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TEAP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 её 6-ти Комитетов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Оценочный доклад </a:t>
            </a:r>
            <a:r>
              <a:rPr b="0" lang="en-GB" sz="2300" spc="-1" strike="noStrike">
                <a:solidFill>
                  <a:srgbClr val="99cc00"/>
                </a:solidFill>
                <a:latin typeface="Tahoma"/>
              </a:rPr>
              <a:t>TEAP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Все ключевые сообщения и резюме всех</a:t>
            </a:r>
            <a:r>
              <a:rPr b="0" lang="en-GB" sz="23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Комитетов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Все основные положени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Выдержки из всех соответствующих "неформальных" оценочных докладов сделанных в течение 2007-2010 гг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Важные темы </a:t>
            </a:r>
            <a:r>
              <a:rPr b="0" lang="en-GB" sz="2300" spc="-1" strike="noStrike">
                <a:solidFill>
                  <a:srgbClr val="99cc00"/>
                </a:solidFill>
                <a:latin typeface="Tahoma"/>
              </a:rPr>
              <a:t>(</a:t>
            </a: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судя на тот момент</a:t>
            </a:r>
            <a:r>
              <a:rPr b="0" lang="en-GB" sz="2300" spc="-1" strike="noStrike">
                <a:solidFill>
                  <a:srgbClr val="99cc00"/>
                </a:solidFill>
                <a:latin typeface="Tahoma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9cc00"/>
                </a:solidFill>
                <a:latin typeface="Tahoma"/>
              </a:rPr>
              <a:t>Организационные вопросы </a:t>
            </a:r>
            <a:r>
              <a:rPr b="0" lang="en-GB" sz="2300" spc="-1" strike="noStrike">
                <a:solidFill>
                  <a:srgbClr val="99cc00"/>
                </a:solidFill>
                <a:latin typeface="Tahoma"/>
              </a:rPr>
              <a:t>TEAP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3DDF-C11C-4FD3-BDB0-CA6DDD222F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Новая оценка доклад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2014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Оценочные доклады, запрошенные сторонами в 2011 году</a:t>
            </a:r>
            <a:r>
              <a:rPr b="0" lang="en-US" sz="2200" spc="-1" strike="noStrike">
                <a:solidFill>
                  <a:srgbClr val="99cc00"/>
                </a:solidFill>
                <a:latin typeface="Tahoma"/>
              </a:rPr>
              <a:t> (</a:t>
            </a: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даны срок и оценка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ервое совещание для обсуждения членства и структуры доклада в августе 2011 года в Праге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до Конгресса МИХ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 (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акрытая встреча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се встречи Комитета закрытые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 оценке членства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TOC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2010 были сделаны замечания и предложения до заседания; темы обсуждение были составлены сопредседателями и ассистентом по логистике для руководства обсужд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Первое</a:t>
            </a:r>
            <a:r>
              <a:rPr b="0" lang="en-US" sz="2200" spc="-1" strike="noStrike">
                <a:solidFill>
                  <a:srgbClr val="99cc00"/>
                </a:solidFill>
                <a:latin typeface="Tahoma"/>
              </a:rPr>
              <a:t> (</a:t>
            </a: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предварительное</a:t>
            </a:r>
            <a:r>
              <a:rPr b="0" lang="en-US" sz="2200" spc="-1" strike="noStrike">
                <a:solidFill>
                  <a:srgbClr val="99cc00"/>
                </a:solidFill>
                <a:latin typeface="Tahoma"/>
              </a:rPr>
              <a:t>) </a:t>
            </a: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принятие решений </a:t>
            </a:r>
            <a:r>
              <a:rPr b="0" lang="en-US" sz="2200" spc="-1" strike="noStrike">
                <a:solidFill>
                  <a:srgbClr val="99cc00"/>
                </a:solidFill>
                <a:latin typeface="Tahoma"/>
              </a:rPr>
              <a:t>RTOC</a:t>
            </a: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 было в Праге</a:t>
            </a:r>
            <a:r>
              <a:rPr b="0" lang="en-US" sz="2200" spc="-1" strike="noStrike">
                <a:solidFill>
                  <a:srgbClr val="99cc00"/>
                </a:solidFill>
                <a:latin typeface="Tahoma"/>
              </a:rPr>
              <a:t> (</a:t>
            </a: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до</a:t>
            </a:r>
            <a:r>
              <a:rPr b="0" lang="en-US" sz="2200" spc="-1" strike="noStrike">
                <a:solidFill>
                  <a:srgbClr val="99cc00"/>
                </a:solidFill>
                <a:latin typeface="Tahoma"/>
              </a:rPr>
              <a:t> MOP 2011)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3F9B-C4CA-4FC3-A1CB-DB1093A722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Новая оценка доклад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2014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т же тип цикла, как в течение 2007-2010 г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ые кандидатуры экспертов будут обсуждаться в зависимости от того, как будет сформирован отчет и что будет необходим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Географический баланс является одним из критериев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;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Запрошенные кандидатуры экспертов из Стран 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5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статьи 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(EIT) (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правительства отправляют в ЮНЕП резюме экспертов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Сеть 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ECA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 заслуживает представительства в размере 35 экспертов в Комитете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 RT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373-E87F-4D26-A155-BAFEEE1810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аточно ли позитивно я проинформировал о Комитет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TO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D8E9-FC2D-4AC8-9945-360E1AB7A1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8006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Tahoma"/>
              </a:rPr>
              <a:t>Спасибо вам</a:t>
            </a:r>
            <a:r>
              <a:rPr b="0" lang="en-US" sz="3600" spc="-1" strike="noStrike">
                <a:solidFill>
                  <a:srgbClr val="33cccc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0/11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ая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ECA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Белград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Холодильная отрасль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10-13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ая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55F3-E8AB-4F25-8E80-5203D73FEE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Это один из шести Комитетов по Техническим Альтернативам по Техническому Обзору и Экономической Оценке (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EAP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), с 1989 год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митет провёл 7 четырёхлетних оценок по холодильному оборудованию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истемам кондиционирования воздуха 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епловым насосам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также ряд незначительных оценок, запрашиваемых Сторонами Монреальского Протокол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митет принимал активное участие в Специальном Докладе по Озону и Климату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CC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TEAP (2003-2006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143000" y="762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итет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TO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BEC-152B-4DE6-A921-857DB4F046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Стороны запросили оценки из трех блоков (один из которых 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TEAP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 и 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TOC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) в решении в Монреале в 2007 г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ое заседание по составу "новых"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TO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по созданию проекта плана оценочного доклада было проведено в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цент должен быть направлен на новые разработки, альтернативы ГХФУ и варианты с низким уровнем воздействия на клим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D45-5975-4C92-95F1-28D113FD30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членств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анализировано членство 2003-2007 гг., выбраны новые эксперты, и произведены новые назначения в 2008 г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ые назначения в ЮНЕП правительст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росы о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P RTOC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экспертам о правительственных кандидатурах в ЮНЕ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ый состав сопредседателе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ия и Нидерланд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(2010) RT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8369-DAC3-4401-B6C3-D17959C467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членств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35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членов-экспертов в холодильной отрасли/отрасли кондиционирования воздуха/отрасли тепловых насосов из развитых стран, стран 5 Статьи и не входящих в данную статью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давляющее большинство из развитых стр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торонам необходимо стремиться к тому, чтобы значительную часть членов  составляли страны 5 статьи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Техническое задание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Это зависит от доступности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необходимых знаний, письменных навыков и навыков обсуждения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сё на английском языке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9141-C547-4305-84A4-27A3297D9E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членств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которые изменения в членстве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TOC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оисходят в период оценочного цикл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Важным вопросом является финансовая поддержка для экспертов из развитых стран от правительств, промышленного сектора и других организац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cc00"/>
                </a:solidFill>
                <a:latin typeface="Tahoma"/>
              </a:rPr>
              <a:t>Поездки экспертов из стран 5 статьи финансируются ЮНЕП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Необходимость привлечения опыта экспертов к встречам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TOC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полученного из национальных и международных докладов на английском языке, и необходимость опыта в разработке проектов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ни также должны быть способны работать в команд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50F4-B801-42B0-AAE3-6F609DB22D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встреч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2008 -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Копенгаг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2009 –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Монреаль и Сан-Пао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2010 –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Прага и Гуанчжо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гда требуется посещаемость на OEWG и Встречи Стор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2009 –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Женева и 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2010 - </a:t>
            </a:r>
            <a:r>
              <a:rPr b="0" lang="ru-RU" sz="2400" spc="-1" strike="noStrike">
                <a:solidFill>
                  <a:srgbClr val="99cc00"/>
                </a:solidFill>
                <a:latin typeface="Tahoma"/>
              </a:rPr>
              <a:t>Бангк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ы докладов (по частям, по главам) обсуждаются на заседаниях и сроки переработки (логистика) осуществляются в последующ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доступе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з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D047-4A5C-4CF7-B607-69868C0106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 - </a:t>
            </a: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Главы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(CLAs BRA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товые холодильн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(CLA U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рговое холоди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удование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LA F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мышленное Холоди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удование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LA UK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нспортное холодиль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орудование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LA C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диционе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(CLA U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пловые насос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 J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лле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LA U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мобильные кондиционер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LA 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хран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CLA U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/11 Мая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Встреча сети ECA Белград / Холодильная отрасль 10-13 Мая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A47D-29D0-4428-BF54-EF3C44EB728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ahoma"/>
              </a:rPr>
              <a:t>Оценка процесса </a:t>
            </a: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RTOC 2010  </a:t>
            </a:r>
            <a:endParaRPr b="0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варительный проек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9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торая редакция проек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9/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тья редакция проект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спертная оценка институтами, Октябрь-Ноябрь 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о окол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100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нтарие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пределены по главам и рассмотрены на финальной встреч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TOC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ый проект сделан в Январ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ый проект в ЮНЕП, Феврал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8:01:12Z</dcterms:created>
  <dc:creator>WB176912</dc:creator>
  <dc:description/>
  <dc:language>en-US</dc:language>
  <cp:lastModifiedBy>home</cp:lastModifiedBy>
  <dcterms:modified xsi:type="dcterms:W3CDTF">2011-07-20T05:20:42Z</dcterms:modified>
  <cp:revision>187</cp:revision>
  <dc:subject/>
  <dc:title>Slide 1</dc:title>
</cp:coreProperties>
</file>